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FE2-02AD-4C79-886A-B52C827B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2E0-8CA6-43DC-A1CE-3A9680A4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94E-9653-4263-8064-428D2EA0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7C8-B081-435D-8842-2467669C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734-6CB4-4F22-BF36-3198139C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042-9BD7-4B96-9C38-E357DB2D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50D-BFEA-495A-96C1-D6083C32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0F5-CE1C-4309-B48D-C9D4312E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907-ABC5-46F3-AE8C-83F9CB4F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63A-B4A3-411A-9247-62B97A6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56D-293E-40C0-8F19-4AB856B3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BA0-E2CE-48CE-B770-CA14DB72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A209-B4C2-4CF6-88CA-24B796CFE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корень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35164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18472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54508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518508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3:06:16Z</dcterms:created>
  <dc:creator>wqe</dc:creator>
  <dc:description/>
  <dc:language>en-US</dc:language>
  <cp:lastModifiedBy>wqe</cp:lastModifiedBy>
  <dcterms:modified xsi:type="dcterms:W3CDTF">2006-04-06T11:03:21Z</dcterms:modified>
  <cp:revision>3</cp:revision>
  <dc:subject/>
  <dc:title>Слайд 1</dc:title>
</cp:coreProperties>
</file>